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31F-9AD5-4A12-A182-FCD5E771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F90-507D-4268-8B0C-A0B4D19F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D2A-2A55-4AEF-8948-1FB717C9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71F7-6EC5-4488-8005-5A5C0B6D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DA6A-39A4-4595-9C3C-0EFD5EC8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A752-3A07-41C2-A4A5-F86BB34B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8BD9-DC71-4DCB-8044-46DCDC13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17B5-F6F5-4558-A649-E3D57D68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A06E-7CEE-4C18-B077-E9394A4D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9003-9509-4140-83A4-39F304E4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3A33-F657-44E7-8B66-191C7272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0B0-1FFE-40F1-8589-00AE9801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D4CA-8705-4A29-9627-9D9D4946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1B76-7492-4625-9408-F637F0AD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996A-1AEF-4FDB-89AD-B1EB8DCA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D4DF-C6C7-4C91-B95C-97543153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D0A1-1929-4B40-8D72-F6262740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AC4-2A3C-408E-A752-294224E6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E42-ACCF-4CAE-B274-53987DEB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545-2083-4507-A38A-56503200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77B-5FCE-4A69-A14E-10167A83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5777-EF6E-4CC8-9044-1C93BB82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B01-8C5F-4951-9570-BA8D19DE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AEF-6B75-4BAE-9548-3E78E015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54F7-6387-4035-ADF3-840D2CD775D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3041-DE13-4FA7-A013-0726DB33468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Урбанизация и ее роль в жизни общества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89512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Выполнил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703dff"/>
                </a:solidFill>
                <a:latin typeface="Comic Sans MS"/>
              </a:rPr>
              <a:t>Сметанин Михаил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703dff"/>
                </a:solidFill>
                <a:latin typeface="Comic Sans MS"/>
              </a:rPr>
              <a:t>ученик 9 клас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d3d"/>
                </a:solidFill>
                <a:latin typeface="Comic Sans MS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а всех стадиях развития человек влиял на окружающую его природу , использовал ее богатства приспосабливал ее под себя, видоизменял… И если на ранних этапах воздействие носило незначительный и очаговый характер, то с развитием науки и техники оно возросло до ужасающих пределов. Охрана природы - задача нашего века, проблема, ставшая социально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днако воздействие человека на окружающую среду приняло угрожающие масштабы. Чтобы в корне улучшить положение, понадобятся целенаправленные и продуманные действ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грязнение окружающей среды и нарушения экологических связей в экосистемах стали глобальными проблемами. И если человечество будет продолжать идти по нынешнему пути развития, то его гибель, как считают ведущие экологи мира, через два – три поколения неизбеж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b800"/>
                </a:solidFill>
                <a:uFillTx/>
                <a:latin typeface="Comic Sans MS"/>
              </a:rPr>
              <a:t>Целью моей работы являетс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b800"/>
                </a:solidFill>
                <a:uFillTx/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b200"/>
                </a:solidFill>
                <a:latin typeface="Comic Sans MS"/>
              </a:rPr>
              <a:t>Показать загрязняется  ли  оболочка ЗЕМЛИ из-за роста городов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Чтобы достигнуть поставленной  цели были поставлены следующие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1) Выяснить какие районы  планеты считаются самыми загрязненны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2) Выяснить какие болезни имеются у людей проживающих в экологически неблагополучных районах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3) Узнать какие меры борьбы используются против загрязн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4) Сделать вывод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340000" y="0"/>
            <a:ext cx="44640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ч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200"/>
                </a:solidFill>
                <a:latin typeface="Comic Sans MS"/>
              </a:rPr>
              <a:t>          </a:t>
            </a:r>
            <a:r>
              <a:rPr b="0" i="1" lang="en-US" sz="3200" spc="-1" strike="noStrike">
                <a:solidFill>
                  <a:srgbClr val="00b200"/>
                </a:solidFill>
                <a:latin typeface="Comic Sans MS"/>
              </a:rPr>
              <a:t>Самые грязные регионы Зем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85800" y="1905120"/>
            <a:ext cx="3505320" cy="3504960"/>
            <a:chOff x="685800" y="1905120"/>
            <a:chExt cx="3505320" cy="350496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685800" y="1905120"/>
              <a:ext cx="350532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 txBox="1"/>
            <p:nvPr/>
          </p:nvSpPr>
          <p:spPr>
            <a:xfrm>
              <a:off x="685800" y="1905120"/>
              <a:ext cx="3505320" cy="350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олее 10 миллионов человек рискуют заболеть легочными инфекциями, раком или умереть слишком рано, потому что живут в десяти наиболее загрязненных городах мираСамые экологически неблагополучные места в мире находятся в изолированных областях, далеко от столиц и туристических маршрутов. В основном они расположены в развивающихся странах, где слабо развита защита окружающей среды, а у местных властей ощущается "нехватка знаний" в этой сфере. "Жизнь в загрязненным городе похожа на жизнь под смертным приговором",                                    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Top-10 самых загрязненных мест (в алфавитном порядке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Дзержинск (Нижегородская область, Россия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Кабве (Замбия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Ла-Оройа (Перу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 Линьфынь (Китай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 Майли-Сай (Киргизия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. Норильск (Красноярский край, Россия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7. Ранипет (Индия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8. Рудная Пристань (Приморский край, Россия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9. Хайна (Доминиканская республика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0. Чернобыль (Украина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орильск - город на севере Красноярского края, на юге Таймырского полуострова, в 90 км к востоку от реки Енисей. Находится за Полярным кругом. Население вместе с городами-спутниками - 230,1 тысяч челове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Градообразующее предприятие - Заполярный филиал Горно-металлургической компании "Норильский никель" (в прошлом Норильский горно-металлургический комбинат). Норильск - крупный центр цветной металлургии. Здесь ведется добыча цветных металлов: меди, никеля, кобальта; драгоценных металлов: палладия, осмия (порошок), платины (слитки, порошок), золота (слитки, порошок), серебра (слитки, порошок), иридия (слитки), родия (порошок), рутения (порошок). Попутная продукция: селен металлический, сера техническая, теллур металлический, серная кисло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орильский комбинат производит 35% мирового палладия, 25% платины, 20% никеля, 20% родия, 10% кобальта. В России 96% никеля, 95% кобальта, 55% меди производится Норильским комбинатом. Предприятия Норильского комбината осуществляют ядовитые выбросы в атмосферу в больших количествах, в результате которых экологическая ситуация в городе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катастрофическая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43000" y="304920"/>
            <a:ext cx="6248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мые грязные города Росси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Дзержинск - город (до 1930 года - рабочий поселок) в Нижегородской области России. Переименован в 1929 году в честь Феликса Дзержинского. Население - 255,7 тысяч жителей. Дзержинск является одним из центров химической промышленности России: предприятия города производят минеральные удобрения, гербициды, продукты органического синтеза. Действуют также заводы стройматериалов, ЛКМ и оборудования для химической промышленности, канатная, мебельная фабрики, предприятия пищевой промышленност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удная Пристань - село (до октября 2004 - посёлок городского типа) в Дальнегорском городском округе Приморского края в устье реки Рудная на берегу Японского моря. Население - 2389 человек (данные переписи 2002 года). В селе расположен металлургический цех Дальневосточного горно-металлургического комбината (обработка свинца), что создает неблагоприятную экологическую обстановку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62120" y="533520"/>
            <a:ext cx="66006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мые грязные города Росс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703dff"/>
                </a:solidFill>
                <a:uFillTx/>
                <a:latin typeface="Comic Sans MS"/>
              </a:rPr>
              <a:t>Болезни люде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живание в городе с серьезным загрязнением походит на жизнь в ожидании исполнения смертного приговора” сообщается в докладе ученых института. “Если население не погибает от непосредственного отравления, то раковые заболевания, инфекции дыхательных путей, задержка умственного развития, являются вероятными результатами. Псориаз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сориаз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дно из самых распространенных кожных заболеваний.Им болеют почти 10% жителей Земли, и оно чаще встречается в крупных городах и у людей, живущих в экологически грязных района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d3d"/>
                </a:solidFill>
                <a:latin typeface="Comic Sans MS"/>
              </a:rPr>
              <a:t>Меры БОРЬБЫ</a:t>
            </a:r>
            <a:br>
              <a:rPr sz="4400"/>
            </a:br>
            <a:r>
              <a:rPr b="0" lang="en-US" sz="4400" spc="-1" strike="noStrike">
                <a:solidFill>
                  <a:srgbClr val="ff3d3d"/>
                </a:solidFill>
                <a:latin typeface="Comic Sans MS"/>
              </a:rPr>
              <a:t> против загряз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чистка гидросфер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еханическая очисткаЭтот метод очистки используется для удаления из сточных вод нерастворимых примесей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етоды физико-химической очистки сточных вод основаны на изменении физического состояния загрязнителей и в большинстве случаев требуют применения реагент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Химическая или реагентная очисткаОдним из видов обработки сточных вод является реагентная очистка, которая представляет собой сочетание различных типов химических реакций, приводящих к удалению из сточных вод токсичных компонентов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етоды биохимической очистки применяются для удаления из сточных вод органических веществ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даление остаточных органических веществПосле биохимической очистки могут остаться органические, вещества плохо усваиваемые микроорганизмами. Лучший способ их удаления - адсорбция активированным углем, который впоследствии регенерируют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еззараживание водыХорошо известно, что через воду могут распространяться такие страшные заболевания, как холера, брюшной тиф, инфекционный гепатит, дифтерия и др. Поэтому последней стадией подготовки воды для питьевых и других нужд является ее обеззараживание, т.е. уничтожение болезнетворных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микроорганизмов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чистка  биосфер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разработка различных типов бессточных технологических систем и водооборотных циклов на основе очистки сточных во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разработка систем переработки отходов производства во вторичные материальные ресурс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создание и выпуск новых видов продукции с учётом требований повторного её использовани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создание принципиально новые производственных процессов позволяющих исключить или сократить технологические стадии на которых произходит образование отходов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666880" y="152280"/>
            <a:ext cx="388620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d3d"/>
                </a:solidFill>
                <a:latin typeface="Times New Roman"/>
              </a:rPr>
              <a:t>Меры борь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d3d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12-26T08:31:0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